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7E7-9A1B-498B-8BAF-74E12191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854-0C88-4861-B1CD-DE87676D8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C8A-A63D-4C59-BDE8-CAD61EFF8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A42-2C48-4A81-B7B3-008DACF471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433B-AD2B-4F18-8BE5-C30AE45A3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998-B1AF-484D-8906-9555607D5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195588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light waves strike an object, some of the waves are absorbed by the object, some are reflected by it, and some might pass through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8600" y="228600"/>
            <a:ext cx="8763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40417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to light when it strikes the object depends on the material that the object is made 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6360" y="0"/>
            <a:ext cx="9107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33520" y="3276720"/>
            <a:ext cx="3352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see other objects through opaque materia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8" descr="im07 wall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0366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"/>
          <p:cNvGrpSpPr/>
          <p:nvPr/>
        </p:nvGrpSpPr>
        <p:grpSpPr>
          <a:xfrm>
            <a:off x="533520" y="1219320"/>
            <a:ext cx="8076960" cy="1394280"/>
            <a:chOff x="533520" y="1219320"/>
            <a:chExt cx="8076960" cy="1394280"/>
          </a:xfrm>
        </p:grpSpPr>
        <p:sp>
          <p:nvSpPr>
            <p:cNvPr id="50" name="Text Box 2"/>
            <p:cNvSpPr/>
            <p:nvPr/>
          </p:nvSpPr>
          <p:spPr>
            <a:xfrm>
              <a:off x="533520" y="121932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objects reflect and absorb some light waves. Materials that let no light pass throug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898560" y="2081160"/>
              <a:ext cx="7026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m ar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PAQUE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(oh PAYK)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2060640"/>
            <a:ext cx="41148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other hand, you clearly can see other objects through materials such as glass and clear plastic that allow nearly all the light that strikes them to pass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93720" y="633240"/>
            <a:ext cx="51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71960" y="4746600"/>
            <a:ext cx="37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material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im08 window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2555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62940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1219320"/>
            <a:ext cx="37339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ird type of material allows only some light to pass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228600"/>
            <a:ext cx="883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5800" y="4343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objects behind these materials are visible, they are not cle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9" descr="im09 translucent"/>
          <p:cNvPicPr/>
          <p:nvPr/>
        </p:nvPicPr>
        <p:blipFill>
          <a:blip r:embed="rId1"/>
          <a:stretch/>
        </p:blipFill>
        <p:spPr>
          <a:xfrm>
            <a:off x="4267080" y="1143000"/>
            <a:ext cx="43689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28600" y="22860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182880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materials, such as waxed paper and frosted glass, are TRANSLUCENT (trans LEW s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12" descr="im09 translucent"/>
          <p:cNvPicPr/>
          <p:nvPr/>
        </p:nvPicPr>
        <p:blipFill>
          <a:blip r:embed="rId1"/>
          <a:stretch/>
        </p:blipFill>
        <p:spPr>
          <a:xfrm>
            <a:off x="4172040" y="1828800"/>
            <a:ext cx="43686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St. Aloysius</cp:lastModifiedBy>
  <dcterms:modified xsi:type="dcterms:W3CDTF">2012-12-10T16:23:03Z</dcterms:modified>
  <cp:revision>37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8499541</vt:r8>
  </property>
  <property fmtid="{D5CDD505-2E9C-101B-9397-08002B2CF9AE}" pid="3" name="_AuthorEmail">
    <vt:lpwstr>benson.122@osu.edu</vt:lpwstr>
  </property>
  <property fmtid="{D5CDD505-2E9C-101B-9397-08002B2CF9AE}" pid="4" name="_AuthorEmailDisplayName">
    <vt:lpwstr>Kara Benson</vt:lpwstr>
  </property>
  <property fmtid="{D5CDD505-2E9C-101B-9397-08002B2CF9AE}" pid="5" name="_EmailSubject">
    <vt:lpwstr>PS 641</vt:lpwstr>
  </property>
  <property fmtid="{D5CDD505-2E9C-101B-9397-08002B2CF9AE}" pid="6" name="_ReviewingToolsShownOnce">
    <vt:lpwstr/>
  </property>
</Properties>
</file>